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C48-3861-449A-AE82-623A07A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71B-377D-419C-8AF3-0651C5F8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2E9-6A11-4A2F-A010-47C5D1FC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EFC-AA3C-4AD9-8A61-26985171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E4CD-CB5D-4157-8A42-3B566281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79D-EDB0-4B5B-931A-07B6A96F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215-9C6E-4265-BD4D-B450547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1A0-372C-4D31-AA6B-0BDA3AE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B1D1-BC87-4546-BD3C-B3652E2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2C0-88A1-4AA0-9C7D-AE0171F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3DBC-D62A-484D-A3BA-35A2247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0D5-8285-44D1-B8EC-A1872E9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5E0-3C95-4BE5-853F-358201B7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EC09-4220-4E5F-B76C-102E69B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BF6-D2CE-4155-BCF2-185C504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CFC-C950-4702-B811-1B92C6AE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6AF-CECB-4072-8A6E-3304DCCB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171-6ADC-46B4-A262-C9C62CE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4CC-3736-4F88-B8B0-2A1AE0A7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CD5-DE77-4641-BD7B-F6FB7DA1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294-423D-4D99-B871-7CA19ECF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477-896D-4A48-99BE-E7897184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0FB-EE0C-454A-ACE0-2FCEED4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EE4-8283-4851-9218-A8E4709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DC1-CCA0-401E-9818-D25FA02EE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753-6870-4D0B-BEE7-AEAAEEAEF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he necessary components of Story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good script has a main character who is a good person or bad per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ood person is called the Protagonist, also known as the hero/heroine.  They must have a goal!  NOTE: If your main character is bad, they’re called an Anti-H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http://blogs.orlandosentinel.com/entertainment_movies_blog/files/2010/10/darkknight.jpg"/>
          <p:cNvPicPr/>
          <p:nvPr/>
        </p:nvPicPr>
        <p:blipFill>
          <a:blip r:embed="rId1"/>
          <a:stretch/>
        </p:blipFill>
        <p:spPr>
          <a:xfrm>
            <a:off x="2438280" y="4000680"/>
            <a:ext cx="4286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d person is called the Antagonist (also known as the villain)!  They must have a goal that is the opposite of the Protagonis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http://t0.gstatic.com/images?q=tbn:ANd9GcS3qxawh3G-juMDvUJ3ll6ossFxRyCyvvnucgXsLgdPmIWasXFjQg"/>
          <p:cNvPicPr/>
          <p:nvPr/>
        </p:nvPicPr>
        <p:blipFill>
          <a:blip r:embed="rId1"/>
          <a:stretch/>
        </p:blipFill>
        <p:spPr>
          <a:xfrm>
            <a:off x="4572000" y="3581280"/>
            <a:ext cx="245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script must have conflict; without conflict, there is no drama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ind the conflict, ask yourself what is your main character(s) fighting for/what is their goal (for example, if your protagonist is a student who wants to study, then your antagonist might want to convince/persuade the protagonist to do something else/to come over to the “dark side”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ing to wr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CC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To start your story/play/film script (screenplay), you need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ce/set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a relationship betwee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ac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specially your hero and villai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o start your story, you need a beginning, middle, and an end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with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(Two Peo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very good script has a main___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at is the good person called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What does the good person need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What is the bad person call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does the bad person need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What does every good script ne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How do you find the confli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To start writing you need what 4 thing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7T20:56:25Z</dcterms:modified>
  <cp:revision>82</cp:revision>
  <dc:subject/>
  <dc:title>Legacy Life Skills</dc:title>
</cp:coreProperties>
</file>